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9B8-5F91-479F-8155-9057CE9E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041-12F0-4DFA-AAFD-65201D96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EB7-990F-458E-9D93-65304E23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988-8C00-4FF6-AF48-440D235A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006-CB36-4401-B0D8-489586DA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2BB-72BA-4BB0-93A5-AB585DF5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F77-612C-445F-AB2A-3C5795C0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43D-2837-4E2B-A0D0-AD920456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7A4-FF6E-4B29-AA85-4106E6B6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437-4C86-4F18-9BB6-9C6BD3CC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AF3-932C-43C2-A6C5-3DD2F9C5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16F-8569-4424-A6C1-9B2BD48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EF75-A22E-4781-9AA0-9F431E1D67D1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097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LIUL JUDEŢEAN ARGEŞ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6000" y="0"/>
            <a:ext cx="32176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Hotărârea C.J. Argeş n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______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exa n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2"/>
          <p:cNvSpPr/>
          <p:nvPr/>
        </p:nvSpPr>
        <p:spPr>
          <a:xfrm>
            <a:off x="1571760" y="500040"/>
            <a:ext cx="640080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RGANIGRAM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ŢIEI GENERA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TRU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EVIDENŢA PERSOANELOR ARGE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5"/>
          <p:cNvSpPr/>
          <p:nvPr/>
        </p:nvSpPr>
        <p:spPr>
          <a:xfrm>
            <a:off x="3929040" y="2428920"/>
            <a:ext cx="180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REC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6"/>
          <p:cNvSpPr/>
          <p:nvPr/>
        </p:nvSpPr>
        <p:spPr>
          <a:xfrm rot="16200000">
            <a:off x="-474480" y="3650760"/>
            <a:ext cx="2500200" cy="760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RVICIUL DE EVIDENŢ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 PERSOANEL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7"/>
          <p:cNvSpPr/>
          <p:nvPr/>
        </p:nvSpPr>
        <p:spPr>
          <a:xfrm rot="16200000">
            <a:off x="690480" y="3566520"/>
            <a:ext cx="250020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IUL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ST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IVIL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3"/>
          <p:cNvSpPr/>
          <p:nvPr/>
        </p:nvSpPr>
        <p:spPr>
          <a:xfrm>
            <a:off x="6443640" y="3789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5"/>
          <p:cNvSpPr/>
          <p:nvPr/>
        </p:nvSpPr>
        <p:spPr>
          <a:xfrm rot="16200000">
            <a:off x="4567320" y="4362120"/>
            <a:ext cx="266508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 INFORM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7"/>
          <p:cNvSpPr/>
          <p:nvPr/>
        </p:nvSpPr>
        <p:spPr>
          <a:xfrm rot="16200000">
            <a:off x="5508000" y="4366080"/>
            <a:ext cx="266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DMINISTRATIV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6"/>
          <p:cNvSpPr/>
          <p:nvPr/>
        </p:nvSpPr>
        <p:spPr>
          <a:xfrm>
            <a:off x="5857920" y="29289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0"/>
          <p:cNvSpPr/>
          <p:nvPr/>
        </p:nvSpPr>
        <p:spPr>
          <a:xfrm>
            <a:off x="6929280" y="6143760"/>
            <a:ext cx="207180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 P.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: 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=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4 funcţii pub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ŢI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33 funcţii pub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ŢI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 3 funcţii contractu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3"/>
          <p:cNvSpPr/>
          <p:nvPr/>
        </p:nvSpPr>
        <p:spPr>
          <a:xfrm>
            <a:off x="900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6"/>
          <p:cNvSpPr/>
          <p:nvPr/>
        </p:nvSpPr>
        <p:spPr>
          <a:xfrm>
            <a:off x="68436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8"/>
          <p:cNvSpPr/>
          <p:nvPr/>
        </p:nvSpPr>
        <p:spPr>
          <a:xfrm rot="10800000">
            <a:off x="4572000" y="3357360"/>
            <a:ext cx="720720" cy="26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 FINANCIAR CONTAB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9"/>
          <p:cNvSpPr/>
          <p:nvPr/>
        </p:nvSpPr>
        <p:spPr>
          <a:xfrm>
            <a:off x="197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3"/>
          <p:cNvSpPr/>
          <p:nvPr/>
        </p:nvSpPr>
        <p:spPr>
          <a:xfrm>
            <a:off x="4859280" y="292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4"/>
          <p:cNvSpPr/>
          <p:nvPr/>
        </p:nvSpPr>
        <p:spPr>
          <a:xfrm>
            <a:off x="2714760" y="1000080"/>
            <a:ext cx="4319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ONSILIUL JUDEŢEAN ARGE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8"/>
          <p:cNvSpPr/>
          <p:nvPr/>
        </p:nvSpPr>
        <p:spPr>
          <a:xfrm>
            <a:off x="684360" y="2565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5"/>
          <p:cNvSpPr/>
          <p:nvPr/>
        </p:nvSpPr>
        <p:spPr>
          <a:xfrm>
            <a:off x="3643200" y="1714680"/>
            <a:ext cx="278604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DIRECŢIA  GENERALĂ PENT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EVIDENŢA PERSOANELOR ARGE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9"/>
          <p:cNvSpPr/>
          <p:nvPr/>
        </p:nvSpPr>
        <p:spPr>
          <a:xfrm>
            <a:off x="5000760" y="1357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9"/>
          <p:cNvSpPr/>
          <p:nvPr/>
        </p:nvSpPr>
        <p:spPr>
          <a:xfrm>
            <a:off x="4929120" y="20718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9"/>
          <p:cNvSpPr/>
          <p:nvPr/>
        </p:nvSpPr>
        <p:spPr>
          <a:xfrm>
            <a:off x="550872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94"/>
          <p:cNvSpPr/>
          <p:nvPr/>
        </p:nvSpPr>
        <p:spPr>
          <a:xfrm>
            <a:off x="4859280" y="2924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8"/>
          <p:cNvSpPr/>
          <p:nvPr/>
        </p:nvSpPr>
        <p:spPr>
          <a:xfrm>
            <a:off x="6804000" y="292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7"/>
          <p:cNvSpPr/>
          <p:nvPr/>
        </p:nvSpPr>
        <p:spPr>
          <a:xfrm rot="16200000">
            <a:off x="2057400" y="3566520"/>
            <a:ext cx="250020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IUL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JURIDIC    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ESURSE UMANE    Ş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ELAŢII PUB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9"/>
          <p:cNvSpPr/>
          <p:nvPr/>
        </p:nvSpPr>
        <p:spPr>
          <a:xfrm>
            <a:off x="334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09:47:59Z</dcterms:created>
  <dc:creator>it</dc:creator>
  <dc:description/>
  <dc:language>en-US</dc:language>
  <cp:lastModifiedBy>DIRECTOR</cp:lastModifiedBy>
  <dcterms:modified xsi:type="dcterms:W3CDTF">2016-04-15T07:57:00Z</dcterms:modified>
  <cp:revision>63</cp:revision>
  <dc:subject/>
  <dc:title>CONSILIUL JUDEŢEAN ARGEŞ                                                                              </dc:title>
</cp:coreProperties>
</file>