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2AB-FE17-46DE-BA91-01EA32D8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582-9BF8-43C1-A4AF-A0811B7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632-1758-4459-8FE0-82FCBF1D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CA0-3BBC-47C0-AB8D-DE4127A6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E4E-A6B3-4714-B26A-997D449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EAB-217E-4D2E-AE87-C70AFD5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A2B-D8ED-482C-98D2-CCE4847F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7F2-C2E3-4CE8-BDDC-ECE28F0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166-22DA-4B4E-8989-C7DDC45C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08E-A0EB-4100-9A8B-A3E4E49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EE0-6FA2-4249-B4D4-BBE4AC2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BBE-80E1-4A63-BCCD-0DEE375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9AD0-1911-43DB-874B-231D9B4C71F9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097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LIUL JUDEŢEAN ARGEŞ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6000" y="0"/>
            <a:ext cx="3217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Hotărârea C.J. Argeş n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______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exa n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1571760" y="500040"/>
            <a:ext cx="64008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RGANIGRAM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ŢIEI GENERA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EVIDENŢA PERSOANELOR ARG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5"/>
          <p:cNvSpPr/>
          <p:nvPr/>
        </p:nvSpPr>
        <p:spPr>
          <a:xfrm>
            <a:off x="3929040" y="2428920"/>
            <a:ext cx="180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REC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 rot="16200000">
            <a:off x="-474480" y="3650760"/>
            <a:ext cx="2500200" cy="76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RVICIUL DE EVIDEN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 PERSOANEL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7"/>
          <p:cNvSpPr/>
          <p:nvPr/>
        </p:nvSpPr>
        <p:spPr>
          <a:xfrm rot="16200000">
            <a:off x="69048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ST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IVIL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6443640" y="3789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5"/>
          <p:cNvSpPr/>
          <p:nvPr/>
        </p:nvSpPr>
        <p:spPr>
          <a:xfrm rot="16200000">
            <a:off x="4567320" y="4362120"/>
            <a:ext cx="26650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INFOR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7"/>
          <p:cNvSpPr/>
          <p:nvPr/>
        </p:nvSpPr>
        <p:spPr>
          <a:xfrm rot="16200000">
            <a:off x="5508000" y="4366080"/>
            <a:ext cx="266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DMINISTRATI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>
            <a:off x="5857920" y="2928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0"/>
          <p:cNvSpPr/>
          <p:nvPr/>
        </p:nvSpPr>
        <p:spPr>
          <a:xfrm>
            <a:off x="6929280" y="6143760"/>
            <a:ext cx="20718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 P.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: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4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33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3 funcţii contractu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3"/>
          <p:cNvSpPr/>
          <p:nvPr/>
        </p:nvSpPr>
        <p:spPr>
          <a:xfrm>
            <a:off x="90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6"/>
          <p:cNvSpPr/>
          <p:nvPr/>
        </p:nvSpPr>
        <p:spPr>
          <a:xfrm>
            <a:off x="684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8"/>
          <p:cNvSpPr/>
          <p:nvPr/>
        </p:nvSpPr>
        <p:spPr>
          <a:xfrm rot="10800000">
            <a:off x="4572000" y="3357360"/>
            <a:ext cx="720720" cy="26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FINANCIAR CONTAB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9"/>
          <p:cNvSpPr/>
          <p:nvPr/>
        </p:nvSpPr>
        <p:spPr>
          <a:xfrm>
            <a:off x="197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3"/>
          <p:cNvSpPr/>
          <p:nvPr/>
        </p:nvSpPr>
        <p:spPr>
          <a:xfrm>
            <a:off x="485928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4"/>
          <p:cNvSpPr/>
          <p:nvPr/>
        </p:nvSpPr>
        <p:spPr>
          <a:xfrm>
            <a:off x="2714760" y="1000080"/>
            <a:ext cx="43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SILIUL JUDEŢEAN ARG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8"/>
          <p:cNvSpPr/>
          <p:nvPr/>
        </p:nvSpPr>
        <p:spPr>
          <a:xfrm>
            <a:off x="684360" y="256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3643200" y="1714680"/>
            <a:ext cx="278604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DIRECŢIA  GENERALĂ PENT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EVIDENŢA PERSOANELOR ARGE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9"/>
          <p:cNvSpPr/>
          <p:nvPr/>
        </p:nvSpPr>
        <p:spPr>
          <a:xfrm>
            <a:off x="5000760" y="1357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9"/>
          <p:cNvSpPr/>
          <p:nvPr/>
        </p:nvSpPr>
        <p:spPr>
          <a:xfrm>
            <a:off x="4929120" y="2071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9"/>
          <p:cNvSpPr/>
          <p:nvPr/>
        </p:nvSpPr>
        <p:spPr>
          <a:xfrm>
            <a:off x="5508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4"/>
          <p:cNvSpPr/>
          <p:nvPr/>
        </p:nvSpPr>
        <p:spPr>
          <a:xfrm>
            <a:off x="4859280" y="29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8"/>
          <p:cNvSpPr/>
          <p:nvPr/>
        </p:nvSpPr>
        <p:spPr>
          <a:xfrm>
            <a:off x="680400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 rot="16200000">
            <a:off x="205740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JURIDIC    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SURSE UMANE    Ş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LAŢII PUB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9"/>
          <p:cNvSpPr/>
          <p:nvPr/>
        </p:nvSpPr>
        <p:spPr>
          <a:xfrm>
            <a:off x="334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09:47:59Z</dcterms:created>
  <dc:creator>it</dc:creator>
  <dc:description/>
  <dc:language>en-US</dc:language>
  <cp:lastModifiedBy>DIRECTOR</cp:lastModifiedBy>
  <dcterms:modified xsi:type="dcterms:W3CDTF">2016-04-15T07:57:00Z</dcterms:modified>
  <cp:revision>63</cp:revision>
  <dc:subject/>
  <dc:title>CONSILIUL JUDEŢEAN ARGEŞ                                                                              </dc:title>
</cp:coreProperties>
</file>