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674-1D41-437F-B8B8-B9D311F9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AC5-99E6-4FA7-A128-C848FEF5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F0C-9AC7-48A0-A101-B26F02D5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E87-52CD-42E4-9178-6EC8EB35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E2F-1C8C-40B3-B6B7-6B6E952C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916-B0C6-4A82-BA2C-6B5C09AD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C4E-90ED-406B-B797-CE50DFE5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8DF-C814-40B9-AFF9-4358C9B3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65D-8B59-4997-88F2-5AB546F8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9CE-84F6-4E91-81B3-B8C8867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873-39D4-4FBE-BCC7-AB7F6A3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C15-2AC2-43EC-B90E-D465E6B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D7D1-882B-4E69-B827-19A49146D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3580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ALA GIMNAZIALA SPECIALA MARINA, CURTEA DE ARGES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GRAMA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şcolar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3714840" y="1928880"/>
            <a:ext cx="22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dminist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6357960" y="2571840"/>
            <a:ext cx="220968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isia de Evaluare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urare a Calita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9"/>
          <p:cNvSpPr/>
          <p:nvPr/>
        </p:nvSpPr>
        <p:spPr>
          <a:xfrm flipH="1">
            <a:off x="2785680" y="2928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0"/>
          <p:cNvSpPr/>
          <p:nvPr/>
        </p:nvSpPr>
        <p:spPr>
          <a:xfrm>
            <a:off x="5000760" y="28576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1"/>
          <p:cNvSpPr/>
          <p:nvPr/>
        </p:nvSpPr>
        <p:spPr>
          <a:xfrm>
            <a:off x="3929040" y="2714760"/>
            <a:ext cx="165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2"/>
          <p:cNvSpPr/>
          <p:nvPr/>
        </p:nvSpPr>
        <p:spPr>
          <a:xfrm>
            <a:off x="6000840" y="292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1214280" y="2714760"/>
            <a:ext cx="135756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fesor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5643720" y="3286080"/>
            <a:ext cx="12142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500040" y="5214960"/>
            <a:ext cx="2786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itii de conducere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i de executie =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posturi = 3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7000920" y="3857760"/>
            <a:ext cx="112860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e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2"/>
          <p:cNvSpPr/>
          <p:nvPr/>
        </p:nvSpPr>
        <p:spPr>
          <a:xfrm flipH="1">
            <a:off x="2714760" y="3214800"/>
            <a:ext cx="10713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54" descr=""/>
          <p:cNvPicPr/>
          <p:nvPr/>
        </p:nvPicPr>
        <p:blipFill>
          <a:blip r:embed="rId1"/>
          <a:stretch/>
        </p:blipFill>
        <p:spPr>
          <a:xfrm>
            <a:off x="2494080" y="1133640"/>
            <a:ext cx="4449600" cy="446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5"/>
          <p:cNvSpPr txBox="1"/>
          <p:nvPr/>
        </p:nvSpPr>
        <p:spPr>
          <a:xfrm>
            <a:off x="3929040" y="857160"/>
            <a:ext cx="17128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771640" y="620640"/>
            <a:ext cx="376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>
            <a:off x="1295280" y="4010040"/>
            <a:ext cx="1357560" cy="7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51"/>
          <p:cNvCxnSpPr/>
          <p:nvPr/>
        </p:nvCxnSpPr>
        <p:spPr>
          <a:xfrm flipH="1">
            <a:off x="4857480" y="1571400"/>
            <a:ext cx="21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>
            <a:off x="4857480" y="235728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9:24:28Z</dcterms:created>
  <dc:creator>MARINA</dc:creator>
  <dc:description/>
  <dc:language>en-US</dc:language>
  <cp:lastModifiedBy>roxanas</cp:lastModifiedBy>
  <dcterms:modified xsi:type="dcterms:W3CDTF">2014-03-28T11:13:02Z</dcterms:modified>
  <cp:revision>14</cp:revision>
  <dc:subject/>
  <dc:title>Centrul de zi Marina                                                       Organigramă                                                An şcolar 2011 - 2012</dc:title>
</cp:coreProperties>
</file>