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164-FF0E-43F6-BEB8-71FBF490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418-67F5-40CF-8EAD-C4E4E3F5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5C3-4D7F-485C-ACED-2D07AB23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487-AF37-4BEA-921B-64EA3A7E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42C-A318-4762-9FE2-A078C6B4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866-01C2-44D1-938F-0E2FC40E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CD7-BE25-4363-890A-BA3EE02F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56D-6DE1-4C67-873C-F88B381E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9BD-6F2E-4522-8191-3AB2CED4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D6D0-06AF-4970-9645-BBA475DF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6B0-0A24-4442-BECD-9B39AE0B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9C1-0A37-4EC2-A576-B7C217F3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DE0E-E105-4924-A7D9-E13365CDB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3580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ALA GIMNAZIALA SPECIALA MARINA, CURTEA DE ARGES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GRAMA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şcolar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6"/>
          <p:cNvSpPr/>
          <p:nvPr/>
        </p:nvSpPr>
        <p:spPr>
          <a:xfrm>
            <a:off x="3714840" y="1928880"/>
            <a:ext cx="22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dminist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6357960" y="2571840"/>
            <a:ext cx="220968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misia de Evaluare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urare a Calita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9"/>
          <p:cNvSpPr/>
          <p:nvPr/>
        </p:nvSpPr>
        <p:spPr>
          <a:xfrm flipH="1">
            <a:off x="2785680" y="29289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0"/>
          <p:cNvSpPr/>
          <p:nvPr/>
        </p:nvSpPr>
        <p:spPr>
          <a:xfrm>
            <a:off x="5000760" y="28576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1"/>
          <p:cNvSpPr/>
          <p:nvPr/>
        </p:nvSpPr>
        <p:spPr>
          <a:xfrm>
            <a:off x="3929040" y="2714760"/>
            <a:ext cx="165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2"/>
          <p:cNvSpPr/>
          <p:nvPr/>
        </p:nvSpPr>
        <p:spPr>
          <a:xfrm>
            <a:off x="6000840" y="2928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1214280" y="2714760"/>
            <a:ext cx="135756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fesor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5643720" y="3286080"/>
            <a:ext cx="121428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500040" y="5214960"/>
            <a:ext cx="2786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itii de conducere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i de executie =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posturi = 3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7000920" y="3857760"/>
            <a:ext cx="112860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e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2"/>
          <p:cNvSpPr/>
          <p:nvPr/>
        </p:nvSpPr>
        <p:spPr>
          <a:xfrm flipH="1">
            <a:off x="2714760" y="3214800"/>
            <a:ext cx="107136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54" descr=""/>
          <p:cNvPicPr/>
          <p:nvPr/>
        </p:nvPicPr>
        <p:blipFill>
          <a:blip r:embed="rId1"/>
          <a:stretch/>
        </p:blipFill>
        <p:spPr>
          <a:xfrm>
            <a:off x="2494080" y="1133640"/>
            <a:ext cx="4449600" cy="446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5"/>
          <p:cNvSpPr txBox="1"/>
          <p:nvPr/>
        </p:nvSpPr>
        <p:spPr>
          <a:xfrm>
            <a:off x="3929040" y="857160"/>
            <a:ext cx="17128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771640" y="620640"/>
            <a:ext cx="376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>
            <a:off x="1295280" y="4010040"/>
            <a:ext cx="1357560" cy="7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51"/>
          <p:cNvCxnSpPr/>
          <p:nvPr/>
        </p:nvCxnSpPr>
        <p:spPr>
          <a:xfrm flipH="1">
            <a:off x="4857480" y="1571400"/>
            <a:ext cx="216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58"/>
          <p:cNvCxnSpPr/>
          <p:nvPr/>
        </p:nvCxnSpPr>
        <p:spPr>
          <a:xfrm flipH="1">
            <a:off x="4857480" y="2357280"/>
            <a:ext cx="216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9:24:28Z</dcterms:created>
  <dc:creator>MARINA</dc:creator>
  <dc:description/>
  <dc:language>en-US</dc:language>
  <cp:lastModifiedBy>roxanas</cp:lastModifiedBy>
  <dcterms:modified xsi:type="dcterms:W3CDTF">2014-03-28T11:13:02Z</dcterms:modified>
  <cp:revision>14</cp:revision>
  <dc:subject/>
  <dc:title>Centrul de zi Marina                                                       Organigramă                                                An şcolar 2011 - 2012</dc:title>
</cp:coreProperties>
</file>